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ECA6199E-6014-4A5A-9F2E-DC617EEB55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4496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6760" cy="37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-57780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-57780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39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0560"/>
            <a:ext cx="7839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496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8760" y="167652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9080" y="167652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056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8760" y="394056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9080" y="394056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83936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39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304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496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0560"/>
            <a:ext cx="7839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7467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TTÜ 2007        T.Tammet     IT sissejuhatus loeng 11      lk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82A011EA-C964-4114-B690-C441EF167DB2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839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8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8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8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8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kask.googlepages.com/" TargetMode="External"/><Relationship Id="rId2" Type="http://schemas.openxmlformats.org/officeDocument/2006/relationships/hyperlink" Target="http://kask.googlepages.com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9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interneti rakenduste tehnoloogi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914400" y="294840"/>
            <a:ext cx="7772400" cy="320760"/>
            <a:chOff x="914400" y="294840"/>
            <a:chExt cx="7772400" cy="320760"/>
          </a:xfrm>
        </p:grpSpPr>
        <p:sp>
          <p:nvSpPr>
            <p:cNvPr id="5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8685360" y="294840"/>
              <a:ext cx="1440" cy="3207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riti täpset teksti paigutust ja kujundust võimaldav keel HTML täienduse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uri lisaks:  http://www.w3schools.com/css/default.asp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38080" y="372960"/>
            <a:ext cx="7767720" cy="316080"/>
            <a:chOff x="838080" y="372960"/>
            <a:chExt cx="7767720" cy="316080"/>
          </a:xfrm>
        </p:grpSpPr>
        <p:sp>
          <p:nvSpPr>
            <p:cNvPr id="152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8604360" y="372960"/>
              <a:ext cx="1440" cy="316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Javascrip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Brauseri programmeerimiskeel: javascripti programmid töötavad otse brauseris: muudavad htmli, css-i, võtavad ühendust serveriga jne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uri lisaks:  http://www.w3schools.com/js/default.asp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838080" y="372960"/>
            <a:ext cx="7767720" cy="316080"/>
            <a:chOff x="838080" y="372960"/>
            <a:chExt cx="7767720" cy="316080"/>
          </a:xfrm>
        </p:grpSpPr>
        <p:sp>
          <p:nvSpPr>
            <p:cNvPr id="157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8604360" y="372960"/>
              <a:ext cx="1440" cy="316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Javascript, CSS, asynchronous queri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DHT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tähistas: HTML+CSS+Javascrip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JAX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tähistab: HTML+CSS+Javascript+async. Que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atame näide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www.papermountain.org/demos/live/#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38080" y="372960"/>
            <a:ext cx="7767720" cy="316080"/>
            <a:chOff x="838080" y="372960"/>
            <a:chExt cx="7767720" cy="316080"/>
          </a:xfrm>
        </p:grpSpPr>
        <p:sp>
          <p:nvSpPr>
            <p:cNvPr id="162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8604360" y="372960"/>
              <a:ext cx="1440" cy="316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tähendab ..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Xtensible Markup Languag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ruktureeritud teksti esitamise formaa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standard ütleb, kuidas teksti struktuuri märgistad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latavalt liht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äga levinud ja ei ilmuta kadumise märke: vastupidi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ei o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keel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da intelligentset või automaatse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evahen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tu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838080" y="372960"/>
            <a:ext cx="7767720" cy="316080"/>
            <a:chOff x="838080" y="372960"/>
            <a:chExt cx="7767720" cy="316080"/>
          </a:xfrm>
        </p:grpSpPr>
        <p:sp>
          <p:nvSpPr>
            <p:cNvPr id="167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8604360" y="372960"/>
              <a:ext cx="1440" cy="316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üüpraken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eil on mingid andme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eid on vaja faili kirja panna ja hiljem arvutiga töödelda ja teistele  edasi saat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gu meil info mingi õllesordi koht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38080" y="372960"/>
            <a:ext cx="7767720" cy="316080"/>
            <a:chOff x="838080" y="372960"/>
            <a:chExt cx="7767720" cy="316080"/>
          </a:xfrm>
        </p:grpSpPr>
        <p:sp>
          <p:nvSpPr>
            <p:cNvPr id="172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604360" y="372960"/>
              <a:ext cx="1440" cy="316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928880" y="2371680"/>
            <a:ext cx="4435560" cy="386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711520" y="2905200"/>
            <a:ext cx="2308320" cy="660240"/>
            <a:chOff x="2711520" y="2905200"/>
            <a:chExt cx="2308320" cy="660240"/>
          </a:xfrm>
        </p:grpSpPr>
        <p:sp>
          <p:nvSpPr>
            <p:cNvPr id="176" name=""/>
            <p:cNvSpPr/>
            <p:nvPr/>
          </p:nvSpPr>
          <p:spPr>
            <a:xfrm>
              <a:off x="2711520" y="2905200"/>
              <a:ext cx="2308320" cy="660240"/>
            </a:xfrm>
            <a:prstGeom prst="roundRect">
              <a:avLst>
                <a:gd name="adj" fmla="val 23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34880" y="2905200"/>
              <a:ext cx="1299240" cy="398880"/>
            </a:xfrm>
            <a:prstGeom prst="roundRect">
              <a:avLst>
                <a:gd name="adj" fmla="val 23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Nuia tu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395440" y="4871880"/>
            <a:ext cx="3405240" cy="636840"/>
            <a:chOff x="2395440" y="4871880"/>
            <a:chExt cx="3405240" cy="636840"/>
          </a:xfrm>
        </p:grpSpPr>
        <p:sp>
          <p:nvSpPr>
            <p:cNvPr id="179" name=""/>
            <p:cNvSpPr/>
            <p:nvPr/>
          </p:nvSpPr>
          <p:spPr>
            <a:xfrm>
              <a:off x="2419200" y="4871880"/>
              <a:ext cx="3381480" cy="636840"/>
            </a:xfrm>
            <a:prstGeom prst="roundRect">
              <a:avLst>
                <a:gd name="adj" fmla="val 25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95440" y="4871880"/>
              <a:ext cx="2441520" cy="573840"/>
            </a:xfrm>
            <a:prstGeom prst="roundRect">
              <a:avLst>
                <a:gd name="adj" fmla="val 25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Järsumaitse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965480" y="4213080"/>
            <a:ext cx="1310040" cy="586080"/>
            <a:chOff x="4965480" y="4213080"/>
            <a:chExt cx="1310040" cy="586080"/>
          </a:xfrm>
        </p:grpSpPr>
        <p:sp>
          <p:nvSpPr>
            <p:cNvPr id="182" name=""/>
            <p:cNvSpPr/>
            <p:nvPr/>
          </p:nvSpPr>
          <p:spPr>
            <a:xfrm>
              <a:off x="4970520" y="4213080"/>
              <a:ext cx="1305000" cy="586080"/>
            </a:xfrm>
            <a:prstGeom prst="roundRect">
              <a:avLst>
                <a:gd name="adj" fmla="val 26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65480" y="4213080"/>
              <a:ext cx="1267560" cy="398880"/>
            </a:xfrm>
            <a:prstGeom prst="roundRect">
              <a:avLst>
                <a:gd name="adj" fmla="val 2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5.4 kraad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033880" y="3505320"/>
            <a:ext cx="1073160" cy="585720"/>
            <a:chOff x="5033880" y="3505320"/>
            <a:chExt cx="1073160" cy="585720"/>
          </a:xfrm>
        </p:grpSpPr>
        <p:sp>
          <p:nvSpPr>
            <p:cNvPr id="185" name=""/>
            <p:cNvSpPr/>
            <p:nvPr/>
          </p:nvSpPr>
          <p:spPr>
            <a:xfrm>
              <a:off x="5033880" y="3505320"/>
              <a:ext cx="1073160" cy="585720"/>
            </a:xfrm>
            <a:prstGeom prst="roundRect">
              <a:avLst>
                <a:gd name="adj" fmla="val 26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33880" y="3505320"/>
              <a:ext cx="862200" cy="398880"/>
            </a:xfrm>
            <a:prstGeom prst="roundRect">
              <a:avLst>
                <a:gd name="adj" fmla="val 2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o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221000" y="3835440"/>
            <a:ext cx="749520" cy="561960"/>
            <a:chOff x="4221000" y="3835440"/>
            <a:chExt cx="749520" cy="561960"/>
          </a:xfrm>
        </p:grpSpPr>
        <p:sp>
          <p:nvSpPr>
            <p:cNvPr id="188" name=""/>
            <p:cNvSpPr/>
            <p:nvPr/>
          </p:nvSpPr>
          <p:spPr>
            <a:xfrm>
              <a:off x="4227480" y="3835440"/>
              <a:ext cx="743040" cy="561960"/>
            </a:xfrm>
            <a:prstGeom prst="roundRect">
              <a:avLst>
                <a:gd name="adj" fmla="val 28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21000" y="3835440"/>
              <a:ext cx="697320" cy="32976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8.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014200" y="3811680"/>
            <a:ext cx="1943280" cy="463320"/>
            <a:chOff x="2014200" y="3811680"/>
            <a:chExt cx="1943280" cy="463320"/>
          </a:xfrm>
        </p:grpSpPr>
        <p:sp>
          <p:nvSpPr>
            <p:cNvPr id="191" name=""/>
            <p:cNvSpPr/>
            <p:nvPr/>
          </p:nvSpPr>
          <p:spPr>
            <a:xfrm>
              <a:off x="2030400" y="3811680"/>
              <a:ext cx="1927080" cy="46332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14200" y="3811680"/>
              <a:ext cx="1761120" cy="32976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Nuia õllevabri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seda faili kirja pann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riant 1: inimkeelsen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ia tumeda tootja on Nuia õllevabrik. Porteri tüüpi õlu. Kangus 5.4 kraadi. Järsumaitseline. Hind 8.90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eks hea variant, aga arvutiga praktiliselt lootusetu töödeld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riant 2: CSV (comma separated values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Nuia tume”, “Nuia õllevabrik”, Porter, 8.90, 5.4, Järsumaitselin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s hea ja väga levinud varian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ailis ei saa öelda, mis tähestikus (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õ, ä jne kodeering)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ja on eraldi öelda, mida väljad tähendavad (selleks saab kasutada päiserida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probleem: järgmisel slaidi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38080" y="372960"/>
            <a:ext cx="7767720" cy="316080"/>
            <a:chOff x="838080" y="372960"/>
            <a:chExt cx="7767720" cy="316080"/>
          </a:xfrm>
        </p:grpSpPr>
        <p:sp>
          <p:nvSpPr>
            <p:cNvPr id="196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604360" y="372960"/>
              <a:ext cx="1440" cy="316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SV ja muude tabelkujude põhiprobl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840960"/>
            <a:ext cx="7848720" cy="60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SV ja muud tabeliformaadid esitavad infot tabelin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 ei sobi hästi, kui tabeli ruutudes peaks olema alamtabel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ks, ku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haksime sisestada aadressi: riik, linn/küla, tänav, maja/kr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nna juures on hinnaühik (EEK, EUR, jn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QL andmebaasides kasutatakse siis abitabeleid ja neid siduvaid kunstlikke ID-numbreid, mis pole seotud algse datag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38080" y="372960"/>
            <a:ext cx="7767720" cy="316080"/>
            <a:chOff x="838080" y="372960"/>
            <a:chExt cx="7767720" cy="316080"/>
          </a:xfrm>
        </p:grpSpPr>
        <p:sp>
          <p:nvSpPr>
            <p:cNvPr id="201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8604360" y="372960"/>
              <a:ext cx="1440" cy="316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782720" y="1623960"/>
            <a:ext cx="5178600" cy="2125800"/>
          </a:xfrm>
          <a:prstGeom prst="roundRect">
            <a:avLst>
              <a:gd name="adj" fmla="val 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54120" y="1660680"/>
            <a:ext cx="1800" cy="20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70320" y="1660680"/>
            <a:ext cx="144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71840" y="1673280"/>
            <a:ext cx="180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19880" y="1660680"/>
            <a:ext cx="144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08280" y="2050920"/>
            <a:ext cx="511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0880" y="2490840"/>
            <a:ext cx="511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32040" y="3029040"/>
            <a:ext cx="511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viis eelmist infot kirja pann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7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ML-s “pakitakse” infoväljad kirjeldavate nn tag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-de vahe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tume&lt;/nimi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ootja&gt;Nuia õllevabrik&lt;/toot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yyp&gt;Porter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ind&gt;8.90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angus&gt;5.4&lt;/kangu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itse&gt;Järsumaitseline&lt;/maitse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/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s: saab töödelda arvutiga nagu CSV-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s: inimesele kohmakas lugeda, kuid siiski üheselt arusaadav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inus: tekst on pikem,  kui CSV puhul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est saab üle: kokkusurumine (zip, gz, jms pakkijad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838080" y="372960"/>
            <a:ext cx="7767720" cy="316080"/>
            <a:chOff x="838080" y="372960"/>
            <a:chExt cx="7767720" cy="316080"/>
          </a:xfrm>
        </p:grpSpPr>
        <p:sp>
          <p:nvSpPr>
            <p:cNvPr id="214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8604360" y="372960"/>
              <a:ext cx="1440" cy="316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tag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838080" y="372960"/>
            <a:ext cx="7767720" cy="316080"/>
            <a:chOff x="838080" y="372960"/>
            <a:chExt cx="7767720" cy="316080"/>
          </a:xfrm>
        </p:grpSpPr>
        <p:sp>
          <p:nvSpPr>
            <p:cNvPr id="219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8604360" y="372960"/>
              <a:ext cx="1440" cy="316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111400" y="1855800"/>
            <a:ext cx="5178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3320" indent="-276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tootja&gt;Nuia õllevabrik&lt;/tootja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685960" y="2261880"/>
            <a:ext cx="1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90880" y="4041720"/>
            <a:ext cx="10051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us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96200" y="4114800"/>
            <a:ext cx="9334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õpu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094440" y="2285640"/>
            <a:ext cx="14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275000" y="2276640"/>
            <a:ext cx="18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00320" y="4091040"/>
            <a:ext cx="5479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3800" y="4948200"/>
            <a:ext cx="5886360" cy="341280"/>
          </a:xfrm>
          <a:custGeom>
            <a:avLst/>
            <a:gdLst/>
            <a:ahLst/>
            <a:rect l="l" t="t" r="r" b="b"/>
            <a:pathLst>
              <a:path w="16353" h="950">
                <a:moveTo>
                  <a:pt x="16352" y="0"/>
                </a:moveTo>
                <a:cubicBezTo>
                  <a:pt x="16352" y="237"/>
                  <a:pt x="15671" y="474"/>
                  <a:pt x="14990" y="474"/>
                </a:cubicBezTo>
                <a:lnTo>
                  <a:pt x="9539" y="474"/>
                </a:lnTo>
                <a:cubicBezTo>
                  <a:pt x="8858" y="474"/>
                  <a:pt x="8176" y="711"/>
                  <a:pt x="8176" y="949"/>
                </a:cubicBezTo>
                <a:cubicBezTo>
                  <a:pt x="8176" y="711"/>
                  <a:pt x="7495" y="474"/>
                  <a:pt x="6814" y="474"/>
                </a:cubicBezTo>
                <a:lnTo>
                  <a:pt x="1363" y="474"/>
                </a:lnTo>
                <a:cubicBezTo>
                  <a:pt x="682" y="474"/>
                  <a:pt x="0" y="237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54040" y="5483160"/>
            <a:ext cx="9471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gide põhieel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8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mendid võivad sisaldada teisi element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tume&lt;/nimi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oot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õllevabrik&lt;/nimi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aadres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üla&gt;Nuia&lt;/kül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änav&gt;Tallinna mnt&lt;/tänav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ja&gt;2&lt;/ma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aadres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toot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yyp&gt;Porter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ind&gt;8.90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angus&gt;5.4&lt;/kangu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itse&gt;Järsumaitseline&lt;/maitse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/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838080" y="372960"/>
            <a:ext cx="7767720" cy="316080"/>
            <a:chOff x="838080" y="372960"/>
            <a:chExt cx="7767720" cy="316080"/>
          </a:xfrm>
        </p:grpSpPr>
        <p:sp>
          <p:nvSpPr>
            <p:cNvPr id="233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8604360" y="372960"/>
              <a:ext cx="1440" cy="316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116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. Interneti rakendused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0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29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97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eldetuletus: baasprotokollid, HTTP protokol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97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ailide tõmbamine ja serveerimin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5760" indent="-27324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http abil faili tõmm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5760" indent="-27324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http abil faili serveeri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5760" indent="-27324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saatmine serverile: cgi protokol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97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brauseril sees 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5760" indent="-27324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, css, javascript j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5760" indent="-27324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ja xsl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97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97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mantiline koosvõime, andmete esitus ja rdf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97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toloogi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838080" y="371160"/>
            <a:ext cx="7770960" cy="320760"/>
            <a:chOff x="838080" y="371160"/>
            <a:chExt cx="7770960" cy="320760"/>
          </a:xfrm>
        </p:grpSpPr>
        <p:sp>
          <p:nvSpPr>
            <p:cNvPr id="5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8607600" y="371160"/>
              <a:ext cx="1440" cy="3207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ML ja XM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848720" cy="69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pannakse “tag”-ide vahele: infol on sildid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:  “tag”-del visuaalne semantik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b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in on paks teks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b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i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in on kaldkirjas teks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i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:   “tag”-del semantika puudub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autor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nel Tamme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autor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minuaadress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v 9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minuaadress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3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õrguteen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4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bleem:  väga raske, pea võimatu on teha programmi, mis loeks teisest serverist HTML-lehekülgi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e: teeme võrgulehekülgi XML-is, nii et programm teises arvutis suudaks neid lugeda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4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905120" y="3962520"/>
            <a:ext cx="457200" cy="533160"/>
            <a:chOff x="1905120" y="3962520"/>
            <a:chExt cx="457200" cy="533160"/>
          </a:xfrm>
        </p:grpSpPr>
        <p:sp>
          <p:nvSpPr>
            <p:cNvPr id="246" name=""/>
            <p:cNvSpPr/>
            <p:nvPr/>
          </p:nvSpPr>
          <p:spPr>
            <a:xfrm>
              <a:off x="1905120" y="3962520"/>
              <a:ext cx="457200" cy="53316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35080" y="41194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82680" y="41194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08080" y="4344840"/>
              <a:ext cx="252360" cy="511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419720" y="38098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477120" y="28954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648320"/>
            <a:ext cx="385920" cy="6760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48360" y="5638680"/>
            <a:ext cx="1554480" cy="33804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aasteen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11680" y="4648320"/>
            <a:ext cx="1744920" cy="33804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uvamis-tee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114800"/>
            <a:ext cx="1752480" cy="1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952880" y="3268800"/>
            <a:ext cx="1447920" cy="777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05520" y="4191120"/>
            <a:ext cx="1143000" cy="533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83120" y="30290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38680" y="4114800"/>
            <a:ext cx="96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71800" y="36576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õrguteen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4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mantiline koosvõime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ame silmas andmete (nimed, arvud, kuupäevad, tekstid jne) sisulist kättesaamist edasist töötlemist võimaldaval kujul, mitte lihtsalt nende kuvamist näiteks gif-piltiden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6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emantic web: projek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848720" cy="73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esmärk: pakkuda XML-põhiseid keeli ja luua standardeid, mille abil kirjeldada asju (internetis) ja (XML) keeltevahelisi seoseid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ovitav tulemus: saab teha tarkvara, mille abil XML-datat saab ühest programmist teise saata, nii et info kaduma ei läh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smajoones vaja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bjektide kirjeldamise k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istete omavaheliste seoste ja reeglite k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jekti juht:   Tim Berners-Lee (http, www ja esimese brauseri autor, w3c juht)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6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hiline 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9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evalt all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õestuste ke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loog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toloogi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toloogiakeel (Owl ja tema alamhulgad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sjade kirjelduskeel (RDF ja RDF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imede unikaliseerimine (XML namespace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üntaks (XML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nsport (http, https, SOAP, tcp/ip ...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7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143000" y="1752480"/>
            <a:ext cx="5943600" cy="3657600"/>
          </a:xfrm>
          <a:prstGeom prst="roundRect">
            <a:avLst>
              <a:gd name="adj" fmla="val 4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s puudub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908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88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ks programm peab teise programmi antud XML-ist SISULISELT aru saam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88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llepartiide otsimise serv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lgimüüja A annab infot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Hulgimüüja b annab info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beer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&lt;olu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ame&gt;Guinness&lt;/name&gt;           &lt;mark&gt;Guinness&lt;/mark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rice&gt;100&lt;/price&gt;                      &lt;hind&gt;100&lt;/hind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beer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&lt;/olu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lgimüüja C annab info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ort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ame&gt;Guinness&lt;/nam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rice&gt;100&lt;/pric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port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8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rinevad 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848720" cy="74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ame teadma, e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ER            =        ÕL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ORTER   on ka    BEE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ole lootust teha “ette valmis” kõiki keel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olemas alamkeeled (üldine toodete keel, õllede keel Eestis, Tshehhis, Hiinas, õllede keel Tartu Õllevabrikus ja Sakus, ...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li on vaja omavahel tõlkid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õlkimiseks on vaja reegleid ja elementaarset arusaam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8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imede unikaliseerimine: XML namespac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915400" cy="66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e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tagi ette saab kirjutada, mis keeles ta on     &lt;keel:tag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eelte nimedeks kasutatakse URI-sid (URL-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d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"1.0"?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 xmlns:rdf="http://www.w3.org/1999/02/22-rdf-syntax-ns#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dc="http://purl.org/dc/elements/1.1/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ex="http://www.example.org/terms/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http://www.example.org/index.html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creation-date&gt;August 16, 1999&lt;/ex:creation-date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language&gt;English&lt;/ex:language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c:creator rdf:resource="http://www.example.org/staffid/85740"/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9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sjade kirjeldamine: RD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e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kirjeldused on kolmikud:   [objekt,  omadus,  väärtus]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edikaadina:   omadus(objekt,väärtu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need kolm võivad olla URI-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29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elduskeel RD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907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"1.0"?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 xmlns:rdf="http://www.w3.org/1999/02/22-rdf-syntax-ns#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dc="http://purl.org/dc/elements/1.1/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ex="http://www.example.org/terms/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http://www.example.org/index.html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creation-date&gt;August 16, 1999&lt;/ex:creation-date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language&gt;English&lt;/ex:language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c:creator rdf:resource="http://www.example.org/staffid/85740"/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30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kkuvõte protokollindusest internet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838080" y="371160"/>
            <a:ext cx="7770960" cy="320760"/>
            <a:chOff x="838080" y="371160"/>
            <a:chExt cx="7770960" cy="320760"/>
          </a:xfrm>
        </p:grpSpPr>
        <p:sp>
          <p:nvSpPr>
            <p:cNvPr id="6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8607600" y="371160"/>
              <a:ext cx="1440" cy="3207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971800" y="5638680"/>
            <a:ext cx="3581280" cy="457200"/>
            <a:chOff x="2971800" y="5638680"/>
            <a:chExt cx="3581280" cy="457200"/>
          </a:xfrm>
        </p:grpSpPr>
        <p:sp>
          <p:nvSpPr>
            <p:cNvPr id="67" name=""/>
            <p:cNvSpPr/>
            <p:nvPr/>
          </p:nvSpPr>
          <p:spPr>
            <a:xfrm>
              <a:off x="2971800" y="5638680"/>
              <a:ext cx="3581280" cy="45720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71800" y="5638680"/>
              <a:ext cx="3581280" cy="4572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üüsiline ki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971800" y="5029200"/>
            <a:ext cx="3581280" cy="457200"/>
            <a:chOff x="2971800" y="5029200"/>
            <a:chExt cx="3581280" cy="457200"/>
          </a:xfrm>
        </p:grpSpPr>
        <p:sp>
          <p:nvSpPr>
            <p:cNvPr id="70" name=""/>
            <p:cNvSpPr/>
            <p:nvPr/>
          </p:nvSpPr>
          <p:spPr>
            <a:xfrm>
              <a:off x="2971800" y="5029200"/>
              <a:ext cx="3581280" cy="45720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71800" y="5029200"/>
              <a:ext cx="3581280" cy="4572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thernet / SLIP / 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895480" y="4038480"/>
            <a:ext cx="3581640" cy="533520"/>
            <a:chOff x="2895480" y="4038480"/>
            <a:chExt cx="3581640" cy="533520"/>
          </a:xfrm>
        </p:grpSpPr>
        <p:sp>
          <p:nvSpPr>
            <p:cNvPr id="73" name=""/>
            <p:cNvSpPr/>
            <p:nvPr/>
          </p:nvSpPr>
          <p:spPr>
            <a:xfrm>
              <a:off x="2895480" y="4038480"/>
              <a:ext cx="3581640" cy="533520"/>
            </a:xfrm>
            <a:prstGeom prst="roundRect">
              <a:avLst>
                <a:gd name="adj" fmla="val 296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95480" y="4038480"/>
              <a:ext cx="3581640" cy="53352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133720" y="2666880"/>
            <a:ext cx="1600200" cy="762120"/>
            <a:chOff x="2133720" y="2666880"/>
            <a:chExt cx="1600200" cy="762120"/>
          </a:xfrm>
        </p:grpSpPr>
        <p:sp>
          <p:nvSpPr>
            <p:cNvPr id="76" name=""/>
            <p:cNvSpPr/>
            <p:nvPr/>
          </p:nvSpPr>
          <p:spPr>
            <a:xfrm>
              <a:off x="2133720" y="2666880"/>
              <a:ext cx="1600200" cy="76212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2666880"/>
              <a:ext cx="1600200" cy="7621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562720" y="2743200"/>
            <a:ext cx="1600200" cy="762120"/>
            <a:chOff x="5562720" y="2743200"/>
            <a:chExt cx="1600200" cy="762120"/>
          </a:xfrm>
        </p:grpSpPr>
        <p:sp>
          <p:nvSpPr>
            <p:cNvPr id="79" name=""/>
            <p:cNvSpPr/>
            <p:nvPr/>
          </p:nvSpPr>
          <p:spPr>
            <a:xfrm>
              <a:off x="5562720" y="2743200"/>
              <a:ext cx="1600200" cy="76212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62720" y="2743200"/>
              <a:ext cx="1600200" cy="7621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219320" y="1600200"/>
            <a:ext cx="1066680" cy="685800"/>
            <a:chOff x="1219320" y="1600200"/>
            <a:chExt cx="1066680" cy="685800"/>
          </a:xfrm>
        </p:grpSpPr>
        <p:sp>
          <p:nvSpPr>
            <p:cNvPr id="82" name=""/>
            <p:cNvSpPr/>
            <p:nvPr/>
          </p:nvSpPr>
          <p:spPr>
            <a:xfrm>
              <a:off x="121932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1932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438280" y="1600200"/>
            <a:ext cx="1067040" cy="685800"/>
            <a:chOff x="2438280" y="1600200"/>
            <a:chExt cx="1067040" cy="685800"/>
          </a:xfrm>
        </p:grpSpPr>
        <p:sp>
          <p:nvSpPr>
            <p:cNvPr id="85" name=""/>
            <p:cNvSpPr/>
            <p:nvPr/>
          </p:nvSpPr>
          <p:spPr>
            <a:xfrm>
              <a:off x="2438280" y="1600200"/>
              <a:ext cx="106704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38280" y="1600200"/>
              <a:ext cx="106704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657600" y="1600200"/>
            <a:ext cx="1066680" cy="685800"/>
            <a:chOff x="3657600" y="1600200"/>
            <a:chExt cx="1066680" cy="685800"/>
          </a:xfrm>
        </p:grpSpPr>
        <p:sp>
          <p:nvSpPr>
            <p:cNvPr id="88" name=""/>
            <p:cNvSpPr/>
            <p:nvPr/>
          </p:nvSpPr>
          <p:spPr>
            <a:xfrm>
              <a:off x="365760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5760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334120" y="1600200"/>
            <a:ext cx="1066680" cy="685800"/>
            <a:chOff x="5334120" y="1600200"/>
            <a:chExt cx="1066680" cy="685800"/>
          </a:xfrm>
        </p:grpSpPr>
        <p:sp>
          <p:nvSpPr>
            <p:cNvPr id="91" name=""/>
            <p:cNvSpPr/>
            <p:nvPr/>
          </p:nvSpPr>
          <p:spPr>
            <a:xfrm>
              <a:off x="533412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3412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705720" y="1600200"/>
            <a:ext cx="1066680" cy="685800"/>
            <a:chOff x="6705720" y="1600200"/>
            <a:chExt cx="1066680" cy="685800"/>
          </a:xfrm>
        </p:grpSpPr>
        <p:sp>
          <p:nvSpPr>
            <p:cNvPr id="94" name=""/>
            <p:cNvSpPr/>
            <p:nvPr/>
          </p:nvSpPr>
          <p:spPr>
            <a:xfrm>
              <a:off x="670572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0572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344600" y="2379600"/>
            <a:ext cx="6411960" cy="2409840"/>
          </a:xfrm>
          <a:custGeom>
            <a:avLst/>
            <a:gdLst/>
            <a:ahLst/>
            <a:rect l="l" t="t" r="r" b="b"/>
            <a:pathLst>
              <a:path w="17812" h="6692">
                <a:moveTo>
                  <a:pt x="1905" y="524"/>
                </a:moveTo>
                <a:cubicBezTo>
                  <a:pt x="1525" y="577"/>
                  <a:pt x="996" y="688"/>
                  <a:pt x="674" y="899"/>
                </a:cubicBezTo>
                <a:cubicBezTo>
                  <a:pt x="176" y="1230"/>
                  <a:pt x="555" y="1032"/>
                  <a:pt x="224" y="1195"/>
                </a:cubicBezTo>
                <a:cubicBezTo>
                  <a:pt x="110" y="1631"/>
                  <a:pt x="273" y="1045"/>
                  <a:pt x="110" y="1495"/>
                </a:cubicBezTo>
                <a:cubicBezTo>
                  <a:pt x="39" y="1684"/>
                  <a:pt x="52" y="1896"/>
                  <a:pt x="0" y="2095"/>
                </a:cubicBezTo>
                <a:cubicBezTo>
                  <a:pt x="48" y="2694"/>
                  <a:pt x="198" y="3360"/>
                  <a:pt x="710" y="3735"/>
                </a:cubicBezTo>
                <a:cubicBezTo>
                  <a:pt x="811" y="3894"/>
                  <a:pt x="965" y="3965"/>
                  <a:pt x="1084" y="4110"/>
                </a:cubicBezTo>
                <a:cubicBezTo>
                  <a:pt x="1274" y="4340"/>
                  <a:pt x="1349" y="4481"/>
                  <a:pt x="1644" y="4560"/>
                </a:cubicBezTo>
                <a:cubicBezTo>
                  <a:pt x="1812" y="4670"/>
                  <a:pt x="1962" y="4820"/>
                  <a:pt x="2130" y="4931"/>
                </a:cubicBezTo>
                <a:cubicBezTo>
                  <a:pt x="2306" y="5050"/>
                  <a:pt x="2557" y="5059"/>
                  <a:pt x="2725" y="5195"/>
                </a:cubicBezTo>
                <a:cubicBezTo>
                  <a:pt x="2972" y="5398"/>
                  <a:pt x="3192" y="5689"/>
                  <a:pt x="3510" y="5791"/>
                </a:cubicBezTo>
                <a:cubicBezTo>
                  <a:pt x="3730" y="5936"/>
                  <a:pt x="4035" y="6042"/>
                  <a:pt x="4295" y="6091"/>
                </a:cubicBezTo>
                <a:cubicBezTo>
                  <a:pt x="4520" y="6316"/>
                  <a:pt x="4608" y="6271"/>
                  <a:pt x="4930" y="6316"/>
                </a:cubicBezTo>
                <a:cubicBezTo>
                  <a:pt x="5472" y="6483"/>
                  <a:pt x="4864" y="6307"/>
                  <a:pt x="6350" y="6426"/>
                </a:cubicBezTo>
                <a:cubicBezTo>
                  <a:pt x="6575" y="6444"/>
                  <a:pt x="6756" y="6642"/>
                  <a:pt x="6985" y="6651"/>
                </a:cubicBezTo>
                <a:cubicBezTo>
                  <a:pt x="7633" y="6673"/>
                  <a:pt x="8281" y="6677"/>
                  <a:pt x="8930" y="6691"/>
                </a:cubicBezTo>
                <a:cubicBezTo>
                  <a:pt x="10707" y="6616"/>
                  <a:pt x="12449" y="6426"/>
                  <a:pt x="14231" y="6391"/>
                </a:cubicBezTo>
                <a:cubicBezTo>
                  <a:pt x="14469" y="6307"/>
                  <a:pt x="14729" y="6276"/>
                  <a:pt x="14980" y="6241"/>
                </a:cubicBezTo>
                <a:cubicBezTo>
                  <a:pt x="15364" y="6047"/>
                  <a:pt x="14901" y="6267"/>
                  <a:pt x="15280" y="6126"/>
                </a:cubicBezTo>
                <a:cubicBezTo>
                  <a:pt x="15412" y="6077"/>
                  <a:pt x="15518" y="5989"/>
                  <a:pt x="15651" y="5941"/>
                </a:cubicBezTo>
                <a:cubicBezTo>
                  <a:pt x="15862" y="5632"/>
                  <a:pt x="16286" y="5526"/>
                  <a:pt x="16621" y="5420"/>
                </a:cubicBezTo>
                <a:cubicBezTo>
                  <a:pt x="16735" y="5385"/>
                  <a:pt x="16846" y="5345"/>
                  <a:pt x="16960" y="5306"/>
                </a:cubicBezTo>
                <a:cubicBezTo>
                  <a:pt x="17044" y="5275"/>
                  <a:pt x="17185" y="5156"/>
                  <a:pt x="17185" y="5156"/>
                </a:cubicBezTo>
                <a:cubicBezTo>
                  <a:pt x="17811" y="4176"/>
                  <a:pt x="17256" y="1627"/>
                  <a:pt x="17256" y="1534"/>
                </a:cubicBezTo>
                <a:cubicBezTo>
                  <a:pt x="17247" y="1160"/>
                  <a:pt x="16965" y="846"/>
                  <a:pt x="16621" y="710"/>
                </a:cubicBezTo>
                <a:cubicBezTo>
                  <a:pt x="16039" y="127"/>
                  <a:pt x="15915" y="476"/>
                  <a:pt x="14605" y="449"/>
                </a:cubicBezTo>
                <a:cubicBezTo>
                  <a:pt x="14522" y="189"/>
                  <a:pt x="14173" y="269"/>
                  <a:pt x="13935" y="264"/>
                </a:cubicBezTo>
                <a:cubicBezTo>
                  <a:pt x="11695" y="242"/>
                  <a:pt x="9450" y="238"/>
                  <a:pt x="7210" y="224"/>
                </a:cubicBezTo>
                <a:cubicBezTo>
                  <a:pt x="7130" y="0"/>
                  <a:pt x="6981" y="176"/>
                  <a:pt x="6800" y="189"/>
                </a:cubicBezTo>
                <a:cubicBezTo>
                  <a:pt x="6500" y="211"/>
                  <a:pt x="6200" y="211"/>
                  <a:pt x="5900" y="224"/>
                </a:cubicBezTo>
                <a:cubicBezTo>
                  <a:pt x="5014" y="383"/>
                  <a:pt x="5984" y="224"/>
                  <a:pt x="3735" y="224"/>
                </a:cubicBezTo>
                <a:cubicBezTo>
                  <a:pt x="3435" y="224"/>
                  <a:pt x="3139" y="286"/>
                  <a:pt x="2840" y="299"/>
                </a:cubicBezTo>
                <a:cubicBezTo>
                  <a:pt x="2676" y="352"/>
                  <a:pt x="2487" y="427"/>
                  <a:pt x="2315" y="449"/>
                </a:cubicBezTo>
                <a:cubicBezTo>
                  <a:pt x="1869" y="507"/>
                  <a:pt x="1768" y="370"/>
                  <a:pt x="1905" y="524"/>
                </a:cubicBezTo>
                <a:lnTo>
                  <a:pt x="1905" y="524"/>
                </a:ln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066680" y="4028760"/>
            <a:ext cx="838440" cy="131436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3120" y="5410080"/>
            <a:ext cx="317160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osa, reeg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sisse ehitat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3190680" y="3495240"/>
            <a:ext cx="399960" cy="3999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410080" y="3571560"/>
            <a:ext cx="381240" cy="3236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629400" y="2352600"/>
            <a:ext cx="380880" cy="3240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010200" y="2352600"/>
            <a:ext cx="171360" cy="3240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2124000" y="2276280"/>
            <a:ext cx="171360" cy="3236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895480" y="2352600"/>
            <a:ext cx="1800" cy="2476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429000" y="2276280"/>
            <a:ext cx="304920" cy="3236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648320" y="4638600"/>
            <a:ext cx="1440" cy="3240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648320" y="5477040"/>
            <a:ext cx="1440" cy="171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619680" y="5334120"/>
            <a:ext cx="857160" cy="14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46960" y="4267080"/>
            <a:ext cx="1933920" cy="1956960"/>
          </a:xfrm>
          <a:custGeom>
            <a:avLst/>
            <a:gdLst>
              <a:gd name="textAreaLeft" fmla="*/ 360 w 1933920"/>
              <a:gd name="textAreaRight" fmla="*/ 1933560 w 1933920"/>
              <a:gd name="textAreaTop" fmla="*/ 360 h 1956960"/>
              <a:gd name="textAreaBottom" fmla="*/ 1956600 h 1956960"/>
            </a:gdLst>
            <a:ahLst/>
            <a:rect l="textAreaLeft" t="textAreaTop" r="textAreaRight" b="textAreaBottom"/>
            <a:pathLst>
              <a:path w="21600" h="21857">
                <a:moveTo>
                  <a:pt x="20" y="0"/>
                </a:moveTo>
                <a:arcTo wR="20" hR="20" stAng="16200000" swAng="-5400000"/>
                <a:lnTo>
                  <a:pt x="0" y="21837"/>
                </a:lnTo>
                <a:arcTo wR="20" hR="20" stAng="10800000" swAng="-5400000"/>
                <a:lnTo>
                  <a:pt x="21580" y="21857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tvõrk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od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, tüüpilis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etav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ard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raiverit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87400" y="1157400"/>
            <a:ext cx="7292880" cy="1249200"/>
          </a:xfrm>
          <a:custGeom>
            <a:avLst/>
            <a:gdLst/>
            <a:ahLst/>
            <a:rect l="l" t="t" r="r" b="b"/>
            <a:pathLst>
              <a:path w="20259" h="3471">
                <a:moveTo>
                  <a:pt x="449" y="820"/>
                </a:moveTo>
                <a:cubicBezTo>
                  <a:pt x="317" y="1014"/>
                  <a:pt x="141" y="1142"/>
                  <a:pt x="74" y="1380"/>
                </a:cubicBezTo>
                <a:cubicBezTo>
                  <a:pt x="44" y="1490"/>
                  <a:pt x="0" y="1715"/>
                  <a:pt x="0" y="1715"/>
                </a:cubicBezTo>
                <a:cubicBezTo>
                  <a:pt x="26" y="1940"/>
                  <a:pt x="26" y="2169"/>
                  <a:pt x="74" y="2390"/>
                </a:cubicBezTo>
                <a:cubicBezTo>
                  <a:pt x="114" y="2562"/>
                  <a:pt x="189" y="2518"/>
                  <a:pt x="299" y="2575"/>
                </a:cubicBezTo>
                <a:cubicBezTo>
                  <a:pt x="476" y="2663"/>
                  <a:pt x="582" y="2840"/>
                  <a:pt x="745" y="2950"/>
                </a:cubicBezTo>
                <a:cubicBezTo>
                  <a:pt x="1093" y="3466"/>
                  <a:pt x="2152" y="3422"/>
                  <a:pt x="2650" y="3435"/>
                </a:cubicBezTo>
                <a:cubicBezTo>
                  <a:pt x="3474" y="3457"/>
                  <a:pt x="4295" y="3457"/>
                  <a:pt x="5119" y="3470"/>
                </a:cubicBezTo>
                <a:cubicBezTo>
                  <a:pt x="9988" y="3422"/>
                  <a:pt x="14856" y="3351"/>
                  <a:pt x="19725" y="3321"/>
                </a:cubicBezTo>
                <a:cubicBezTo>
                  <a:pt x="19862" y="3228"/>
                  <a:pt x="20095" y="2985"/>
                  <a:pt x="20095" y="2985"/>
                </a:cubicBezTo>
                <a:cubicBezTo>
                  <a:pt x="20258" y="2580"/>
                  <a:pt x="20210" y="2412"/>
                  <a:pt x="20170" y="1900"/>
                </a:cubicBezTo>
                <a:cubicBezTo>
                  <a:pt x="20166" y="1870"/>
                  <a:pt x="20122" y="1517"/>
                  <a:pt x="20095" y="1455"/>
                </a:cubicBezTo>
                <a:cubicBezTo>
                  <a:pt x="19932" y="1107"/>
                  <a:pt x="19959" y="1230"/>
                  <a:pt x="19760" y="1005"/>
                </a:cubicBezTo>
                <a:cubicBezTo>
                  <a:pt x="19663" y="890"/>
                  <a:pt x="19632" y="793"/>
                  <a:pt x="19500" y="705"/>
                </a:cubicBezTo>
                <a:cubicBezTo>
                  <a:pt x="19165" y="485"/>
                  <a:pt x="18900" y="511"/>
                  <a:pt x="18490" y="485"/>
                </a:cubicBezTo>
                <a:cubicBezTo>
                  <a:pt x="17767" y="224"/>
                  <a:pt x="18486" y="471"/>
                  <a:pt x="16435" y="410"/>
                </a:cubicBezTo>
                <a:cubicBezTo>
                  <a:pt x="15747" y="388"/>
                  <a:pt x="15064" y="330"/>
                  <a:pt x="14380" y="295"/>
                </a:cubicBezTo>
                <a:cubicBezTo>
                  <a:pt x="11593" y="0"/>
                  <a:pt x="12096" y="229"/>
                  <a:pt x="6575" y="260"/>
                </a:cubicBezTo>
                <a:cubicBezTo>
                  <a:pt x="5737" y="392"/>
                  <a:pt x="4881" y="401"/>
                  <a:pt x="4035" y="445"/>
                </a:cubicBezTo>
                <a:cubicBezTo>
                  <a:pt x="3743" y="524"/>
                  <a:pt x="3439" y="516"/>
                  <a:pt x="3139" y="560"/>
                </a:cubicBezTo>
                <a:cubicBezTo>
                  <a:pt x="2725" y="617"/>
                  <a:pt x="2319" y="692"/>
                  <a:pt x="1905" y="745"/>
                </a:cubicBezTo>
                <a:cubicBezTo>
                  <a:pt x="1411" y="904"/>
                  <a:pt x="952" y="890"/>
                  <a:pt x="449" y="820"/>
                </a:cubicBezTo>
                <a:lnTo>
                  <a:pt x="449" y="820"/>
                </a:lnTo>
              </a:path>
            </a:pathLst>
          </a:custGeom>
          <a:noFill/>
          <a:ln w="25560">
            <a:solidFill>
              <a:srgbClr val="3333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09480" y="2276640"/>
            <a:ext cx="609840" cy="62856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895480"/>
            <a:ext cx="20574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kendu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ma protokoll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üüpilis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aldi rakendu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elduskeel RD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848720" cy="900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http://www.example.org/index.ht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has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creation-dat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whose value i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August 16, 1999</a:t>
            </a:r>
            <a:br>
              <a:rPr sz="2000"/>
            </a:b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http://www.example.org/index.ht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has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languag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whose value i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English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http://www.example.org/index.ht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has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creat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indicated by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    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http://www.example.org/staffid/85740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30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3995640"/>
            <a:ext cx="9144000" cy="2441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elduskeel RDF: sügavam pu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0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31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81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õrguteenused ja RDF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50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aktiline viis edasiminekuks semantilise koosvõime osa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ovitame esitada andmeid veebilehel selliselt, e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med oleks harilikul (suvalisel) inimloetaval html-kujul tekstidena. xml formaat ei ole tingimata vajalik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arilikul html-lehel olevate andmejuppide ümber pannakse RDFa formaadis metainfo, mis ütleb automaattöötlejale, mis andmetega on tegem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satav metainfo ei muuda lehe algset väljanägemist ja üldjuhul ei dubleeri lehel juba olevat info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31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õrguteenused ja RDF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840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de 1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lgse html-teksti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r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&gt;Jaanus Kask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&gt;6024554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&gt;&lt;a href=”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http://kask.googlepages.com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”&gt;kliki siia&lt;/a&gt;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tr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semel on html-tekstiks RDFa järgi annoteeritult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r 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about=”#jaanus_kask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 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property=”er:nimi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gt;Jaanus Kask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 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property=”er:telefon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gt;6024554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&gt;&lt;a 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rel=”er:koduleht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ref=”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Bitstream Vera Sans"/>
                <a:hlinkClick r:id="rId2"/>
              </a:rPr>
              <a:t>http://kask.googlepages.com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”&gt;kliki siia&lt;/a&gt;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tr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32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õrguteenused ja RDF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848720" cy="736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notatsioonide  kasutusstenaariu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sutused annoteerivad oma harilikke veebilehti is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dportaalid loevad asutuste lehtedelt regulaarselt neid huvitavat infot ja lisavad seda oma andmebaas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dportaalid kasutavad oma andmebaasi erikuvamiste ja eripäringute jaoks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32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tseduraalne vs deklaratiiv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848720" cy="796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tseduraalne info esitu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on programmi sisse kodeeritud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klaratiivne info esitus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on eraldi reeglitena (failis), mida  reegleid kasutav algoritm rakendab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33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ntoloogi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9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ontoloogiad: “maailma mudelid” ehk mõistete hierarhi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Drin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emonad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 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e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gredi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ilsner      Porter     Bock        Hops   Malts  .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i valdkondades on oma ontoloogi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lmselt ei õnnestu panna kõiki programme kasutama samu “standardontoloogiaid”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914400" y="297000"/>
            <a:ext cx="7772400" cy="317520"/>
            <a:chOff x="914400" y="297000"/>
            <a:chExt cx="7772400" cy="317520"/>
          </a:xfrm>
        </p:grpSpPr>
        <p:sp>
          <p:nvSpPr>
            <p:cNvPr id="33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8685360" y="297000"/>
              <a:ext cx="1440" cy="3175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 flipH="1">
            <a:off x="2658600" y="1905120"/>
            <a:ext cx="70164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1668240" y="3276720"/>
            <a:ext cx="54900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41760" y="3276720"/>
            <a:ext cx="14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27672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67080" y="1676520"/>
            <a:ext cx="19051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024520" y="3352680"/>
            <a:ext cx="1648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410080" y="3352680"/>
            <a:ext cx="53352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85680" y="2476440"/>
            <a:ext cx="6051600" cy="2303640"/>
          </a:xfrm>
          <a:custGeom>
            <a:avLst/>
            <a:gdLst/>
            <a:ahLst/>
            <a:rect l="l" t="t" r="r" b="b"/>
            <a:pathLst>
              <a:path w="16812" h="6399">
                <a:moveTo>
                  <a:pt x="12052" y="321"/>
                </a:moveTo>
                <a:cubicBezTo>
                  <a:pt x="11135" y="39"/>
                  <a:pt x="10403" y="48"/>
                  <a:pt x="9406" y="0"/>
                </a:cubicBezTo>
                <a:cubicBezTo>
                  <a:pt x="8017" y="22"/>
                  <a:pt x="6672" y="57"/>
                  <a:pt x="5292" y="180"/>
                </a:cubicBezTo>
                <a:cubicBezTo>
                  <a:pt x="4820" y="313"/>
                  <a:pt x="4348" y="343"/>
                  <a:pt x="3863" y="392"/>
                </a:cubicBezTo>
                <a:cubicBezTo>
                  <a:pt x="3329" y="551"/>
                  <a:pt x="2769" y="643"/>
                  <a:pt x="2218" y="714"/>
                </a:cubicBezTo>
                <a:cubicBezTo>
                  <a:pt x="2068" y="815"/>
                  <a:pt x="1931" y="859"/>
                  <a:pt x="1750" y="895"/>
                </a:cubicBezTo>
                <a:cubicBezTo>
                  <a:pt x="1671" y="948"/>
                  <a:pt x="1574" y="979"/>
                  <a:pt x="1499" y="1036"/>
                </a:cubicBezTo>
                <a:cubicBezTo>
                  <a:pt x="996" y="1415"/>
                  <a:pt x="1737" y="956"/>
                  <a:pt x="1177" y="1287"/>
                </a:cubicBezTo>
                <a:cubicBezTo>
                  <a:pt x="1009" y="1490"/>
                  <a:pt x="815" y="1706"/>
                  <a:pt x="604" y="1861"/>
                </a:cubicBezTo>
                <a:cubicBezTo>
                  <a:pt x="502" y="2108"/>
                  <a:pt x="366" y="2310"/>
                  <a:pt x="246" y="2540"/>
                </a:cubicBezTo>
                <a:cubicBezTo>
                  <a:pt x="119" y="2795"/>
                  <a:pt x="88" y="3095"/>
                  <a:pt x="0" y="3364"/>
                </a:cubicBezTo>
                <a:cubicBezTo>
                  <a:pt x="13" y="3655"/>
                  <a:pt x="13" y="4158"/>
                  <a:pt x="141" y="4471"/>
                </a:cubicBezTo>
                <a:cubicBezTo>
                  <a:pt x="176" y="4560"/>
                  <a:pt x="273" y="4608"/>
                  <a:pt x="321" y="4687"/>
                </a:cubicBezTo>
                <a:cubicBezTo>
                  <a:pt x="524" y="5040"/>
                  <a:pt x="855" y="5203"/>
                  <a:pt x="1248" y="5261"/>
                </a:cubicBezTo>
                <a:cubicBezTo>
                  <a:pt x="1583" y="5393"/>
                  <a:pt x="1918" y="5521"/>
                  <a:pt x="2253" y="5653"/>
                </a:cubicBezTo>
                <a:cubicBezTo>
                  <a:pt x="2548" y="5772"/>
                  <a:pt x="3611" y="5816"/>
                  <a:pt x="4004" y="5830"/>
                </a:cubicBezTo>
                <a:cubicBezTo>
                  <a:pt x="5053" y="5869"/>
                  <a:pt x="6103" y="5905"/>
                  <a:pt x="7153" y="5940"/>
                </a:cubicBezTo>
                <a:cubicBezTo>
                  <a:pt x="8903" y="6156"/>
                  <a:pt x="10650" y="6222"/>
                  <a:pt x="12414" y="6297"/>
                </a:cubicBezTo>
                <a:cubicBezTo>
                  <a:pt x="12956" y="6363"/>
                  <a:pt x="13481" y="6398"/>
                  <a:pt x="14023" y="6297"/>
                </a:cubicBezTo>
                <a:cubicBezTo>
                  <a:pt x="14253" y="6253"/>
                  <a:pt x="14703" y="6152"/>
                  <a:pt x="14703" y="6152"/>
                </a:cubicBezTo>
                <a:cubicBezTo>
                  <a:pt x="14963" y="5944"/>
                  <a:pt x="15196" y="5949"/>
                  <a:pt x="15487" y="5724"/>
                </a:cubicBezTo>
                <a:cubicBezTo>
                  <a:pt x="15730" y="5534"/>
                  <a:pt x="15920" y="5362"/>
                  <a:pt x="16131" y="5150"/>
                </a:cubicBezTo>
                <a:cubicBezTo>
                  <a:pt x="16290" y="4992"/>
                  <a:pt x="16383" y="4855"/>
                  <a:pt x="16564" y="4723"/>
                </a:cubicBezTo>
                <a:cubicBezTo>
                  <a:pt x="16678" y="4489"/>
                  <a:pt x="16749" y="4299"/>
                  <a:pt x="16811" y="4044"/>
                </a:cubicBezTo>
                <a:cubicBezTo>
                  <a:pt x="16775" y="3532"/>
                  <a:pt x="16802" y="3497"/>
                  <a:pt x="16528" y="3148"/>
                </a:cubicBezTo>
                <a:cubicBezTo>
                  <a:pt x="16449" y="2937"/>
                  <a:pt x="16255" y="2804"/>
                  <a:pt x="16096" y="2646"/>
                </a:cubicBezTo>
                <a:cubicBezTo>
                  <a:pt x="15664" y="2213"/>
                  <a:pt x="15152" y="1790"/>
                  <a:pt x="14632" y="1468"/>
                </a:cubicBezTo>
                <a:cubicBezTo>
                  <a:pt x="14464" y="1248"/>
                  <a:pt x="14438" y="1336"/>
                  <a:pt x="14200" y="1217"/>
                </a:cubicBezTo>
                <a:cubicBezTo>
                  <a:pt x="13719" y="979"/>
                  <a:pt x="13216" y="776"/>
                  <a:pt x="12736" y="538"/>
                </a:cubicBezTo>
                <a:cubicBezTo>
                  <a:pt x="12639" y="489"/>
                  <a:pt x="12392" y="410"/>
                  <a:pt x="12303" y="392"/>
                </a:cubicBezTo>
                <a:cubicBezTo>
                  <a:pt x="12039" y="335"/>
                  <a:pt x="12052" y="445"/>
                  <a:pt x="12052" y="321"/>
                </a:cubicBezTo>
                <a:lnTo>
                  <a:pt x="12052" y="321"/>
                </a:lnTo>
              </a:path>
            </a:pathLst>
          </a:custGeom>
          <a:noFill/>
          <a:ln w="25560">
            <a:solidFill>
              <a:srgbClr val="3333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TP ühendused: failide küsimine ja nende and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on omaette protokol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da kasutatakse veebilehtede, piltide, tekstifailide, zip failide jne jne saatmiseks veebiserveri ja brauseri vahe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5" name=""/>
          <p:cNvSpPr/>
          <p:nvPr/>
        </p:nvSpPr>
        <p:spPr>
          <a:xfrm>
            <a:off x="1353960" y="2498760"/>
            <a:ext cx="1905120" cy="1600200"/>
          </a:xfrm>
          <a:prstGeom prst="roundRect">
            <a:avLst>
              <a:gd name="adj" fmla="val 9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934320" y="4114800"/>
            <a:ext cx="1600200" cy="1905120"/>
            <a:chOff x="6934320" y="4114800"/>
            <a:chExt cx="1600200" cy="1905120"/>
          </a:xfrm>
        </p:grpSpPr>
        <p:sp>
          <p:nvSpPr>
            <p:cNvPr id="117" name=""/>
            <p:cNvSpPr/>
            <p:nvPr/>
          </p:nvSpPr>
          <p:spPr>
            <a:xfrm>
              <a:off x="6934320" y="4114800"/>
              <a:ext cx="1600200" cy="1905120"/>
            </a:xfrm>
            <a:custGeom>
              <a:avLst/>
              <a:gdLst>
                <a:gd name="textAreaLeft" fmla="*/ 360 w 1600200"/>
                <a:gd name="textAreaRight" fmla="*/ 1599840 w 1600200"/>
                <a:gd name="textAreaTop" fmla="*/ 360 h 1905120"/>
                <a:gd name="textAreaBottom" fmla="*/ 1904760 h 1905120"/>
              </a:gdLst>
              <a:ahLst/>
              <a:rect l="textAreaLeft" t="textAreaTop" r="textAreaRight" b="textAreaBottom"/>
              <a:pathLst>
                <a:path w="21600" h="25715">
                  <a:moveTo>
                    <a:pt x="21" y="0"/>
                  </a:moveTo>
                  <a:arcTo wR="21" hR="21" stAng="16200000" swAng="-5400000"/>
                  <a:lnTo>
                    <a:pt x="0" y="25694"/>
                  </a:lnTo>
                  <a:arcTo wR="21" hR="21" stAng="10800000" swAng="-5400000"/>
                  <a:lnTo>
                    <a:pt x="21579" y="25715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34320" y="4114800"/>
              <a:ext cx="1600200" cy="1905120"/>
            </a:xfrm>
            <a:custGeom>
              <a:avLst/>
              <a:gdLst>
                <a:gd name="textAreaLeft" fmla="*/ 360 w 1600200"/>
                <a:gd name="textAreaRight" fmla="*/ 1599840 w 1600200"/>
                <a:gd name="textAreaTop" fmla="*/ 360 h 1905120"/>
                <a:gd name="textAreaBottom" fmla="*/ 1904760 h 1905120"/>
              </a:gdLst>
              <a:ahLst/>
              <a:rect l="textAreaLeft" t="textAreaTop" r="textAreaRight" b="textAreaBottom"/>
              <a:pathLst>
                <a:path w="21600" h="25715">
                  <a:moveTo>
                    <a:pt x="21" y="0"/>
                  </a:moveTo>
                  <a:arcTo wR="21" hR="21" stAng="16200000" swAng="-5400000"/>
                  <a:lnTo>
                    <a:pt x="0" y="25694"/>
                  </a:lnTo>
                  <a:arcTo wR="21" hR="21" stAng="10800000" swAng="-5400000"/>
                  <a:lnTo>
                    <a:pt x="21579" y="25715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(brauser)</a:t>
              </a: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üsib fa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430280" y="2754360"/>
            <a:ext cx="189432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 ann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leh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fail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3343320" y="2580840"/>
            <a:ext cx="3295440" cy="13906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32280" y="2514600"/>
            <a:ext cx="4104360" cy="62676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päring üle 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orti (tüüpiliselt 80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760" y="4572000"/>
            <a:ext cx="411948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vastus üle 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di porti (mis port, s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 klient TCP see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3429000"/>
            <a:ext cx="3200400" cy="1295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html-faili tõmmat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atame lihtsat java-koodi näide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://java.sun.com/docs/books/tutorial/networking/urls/readingURL.html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htsamad brauserid ja brauseritaolised rakenduse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ynx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ge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ur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38080" y="372960"/>
            <a:ext cx="7767720" cy="316080"/>
            <a:chOff x="838080" y="372960"/>
            <a:chExt cx="7767720" cy="316080"/>
          </a:xfrm>
        </p:grpSpPr>
        <p:sp>
          <p:nvSpPr>
            <p:cNvPr id="127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8604360" y="372960"/>
              <a:ext cx="1440" cy="316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eebilehtede (failide) serv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975960"/>
            <a:ext cx="7848720" cy="56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29760" indent="-3297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ebilehed on lihtsalt failid, mille ette server paneb http-päis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97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ebileht (fail) võetakse reeglina ka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5760" indent="-2732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lemasoleva failina arvuti ketta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5760" indent="-2732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na, mille teeb iga kord uuesti mõni programm (cgi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480" indent="-2260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 võib olla külge-ehitatud veebiserverile (php, mod-perl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480" indent="-2260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või olla eraldi programm, mille server käivitab (klassikalised cgi-programmid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97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atame tiny serverit näiten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www.lambda.ee/images/8/89/Itsissejuhatus_tiny.zip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36640" y="372960"/>
            <a:ext cx="7769160" cy="316080"/>
            <a:chOff x="836640" y="372960"/>
            <a:chExt cx="7769160" cy="316080"/>
          </a:xfrm>
        </p:grpSpPr>
        <p:sp>
          <p:nvSpPr>
            <p:cNvPr id="132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8604360" y="372960"/>
              <a:ext cx="1440" cy="316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dmete saatmine serverile: cg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9763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RL-i lõpus (peale ?) oleva teksti saab serveri kutsutav programm (nn cgi-programm) kätt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rauser saadab vormi info cgi-kodeeritult nii: a=1&amp;b=35 jne, kus a ja b jne on välja nimed, võrduse järel aga kasutaja sisestatud väärt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atame cgi näiteid tiny serveri peal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localhost:8000/cgi-bin/proov.sh?asa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localhost:8000/cgi-bin/adder?2&amp;3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localhost:8000/cgi-bin/proov.py?a=2&amp;b=14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836640" y="372960"/>
            <a:ext cx="7769160" cy="316080"/>
            <a:chOff x="836640" y="372960"/>
            <a:chExt cx="7769160" cy="316080"/>
          </a:xfrm>
        </p:grpSpPr>
        <p:sp>
          <p:nvSpPr>
            <p:cNvPr id="137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8604360" y="372960"/>
              <a:ext cx="1440" cy="316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Brauser oskab mitut keel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Iga normaalne brauser mõistab: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Html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Css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Javascript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Xslt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Kust lugeda: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metlikud standardid: http://www.w3.org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torialid: http://www.w3schools.com</a:t>
            </a:r>
            <a:r>
              <a:rPr b="0" lang="en-GB" sz="1600" spc="-1" strike="noStrike">
                <a:solidFill>
                  <a:srgbClr val="ffffff"/>
                </a:solidFill>
                <a:latin typeface="Bitstream Vera Sans"/>
              </a:rPr>
              <a:t> erimiskeel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838080" y="372960"/>
            <a:ext cx="7767720" cy="316080"/>
            <a:chOff x="838080" y="372960"/>
            <a:chExt cx="7767720" cy="316080"/>
          </a:xfrm>
        </p:grpSpPr>
        <p:sp>
          <p:nvSpPr>
            <p:cNvPr id="142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8604360" y="372960"/>
              <a:ext cx="1440" cy="316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M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ksti paigutamise / lehe kujundamise ke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e: http://www.w3schools.com/html/default.asp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ndard: http://www.w3.org/TR/html401/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XHTML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aktiliselt seesama, mis HTML (samad tagid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gid peavad olema väikeste tähtedeg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ab olema korrektses XML süntaksis (tagi suletud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ar XML-i lisaknihvi ka (namespaced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38080" y="372960"/>
            <a:ext cx="7767720" cy="316080"/>
            <a:chOff x="838080" y="372960"/>
            <a:chExt cx="7767720" cy="316080"/>
          </a:xfrm>
        </p:grpSpPr>
        <p:sp>
          <p:nvSpPr>
            <p:cNvPr id="147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8604360" y="372960"/>
              <a:ext cx="1440" cy="316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</dc:title>
</cp:coreProperties>
</file>